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711-20C3-4C7D-8713-4F64B123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EDD-B072-4AF1-B7FF-7967C6DA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B58E-5208-401E-97AE-DF6958BF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7192-9171-4AE6-B8FE-6B7D5194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615-3C0F-4BCF-8CD1-D00C5FFA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5FD-DBCD-4868-8626-A1662FC2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1BA-3088-4E4F-8E3E-BA503EFC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3C8-20F7-4A14-8022-5F86428C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EA3-E1EB-4C14-B5F2-487940A7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828-2CCA-4B39-8EB9-EE56DC17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21A7-81D8-4D63-BF37-8B4E9047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293-B6D2-4094-BE7F-05E1EFDE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FB26-ADB1-4EDD-8325-F56057AD5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6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0666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 (mol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grouping of representative particles (what is present:  atoms, molecules, formula units) of a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8288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6.0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alled Avogadro’s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I unit for measuring the amount of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880" y="3048120"/>
            <a:ext cx="18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581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to mo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4191120"/>
            <a:ext cx="7467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st%20001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599240" cy="1096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5334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ample problem 10.2 (pg 291), then do 3 and 4 in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les to p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nd%20001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99240" cy="124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0720" y="22096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ample problem 10.3, then do 5 and 6 in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5146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of a mole of an element (molar m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tomic mass of an element expressed in grams (chosen because of convenience) is the mass of a mole of an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40384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Carbon – 12 amu = 12 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en – 1 amu = 1 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of a mole of a comp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06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eed to know the formula of a comp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6002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one sulfur and 3 oxy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2209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n, just add up the atomic masses of the atom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hmm, where can I find the atomic masses of element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3200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32.1 amu  +  O: 16 (x3) = 48 amu = 80.1 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657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inally, substitute grams for 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4267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ample problem 10.4 on page 296, then do problems 7 and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2:05:50Z</dcterms:created>
  <dc:creator>jpak</dc:creator>
  <dc:description/>
  <dc:language>en-US</dc:language>
  <cp:lastModifiedBy>Farwell Area Schools</cp:lastModifiedBy>
  <dcterms:modified xsi:type="dcterms:W3CDTF">2008-11-10T18:41:06Z</dcterms:modified>
  <cp:revision>5</cp:revision>
  <dc:subject/>
  <dc:title>Note Guide 6-1</dc:title>
</cp:coreProperties>
</file>